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9E3-FF07-41A5-8F0C-39DFD755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644F-5E5B-43B0-AD98-9D26F121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44D-5BA8-455F-8B6F-9BA4C72E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1D86-2FE3-476C-A817-C86957D0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6BC-75A7-4CC7-BA05-43A7F753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02FE-FABC-49FF-99F1-3C64BB51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4035-3426-4E4B-A06E-8F2F497E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229-A9B6-4B91-965C-11B65E4C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5880-6EB2-4F37-B257-AEB1F5FB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2EBF-D572-44DA-B138-374AC3B7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CAA6-82B1-4E43-AC51-56A63631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48B-92F8-4DCD-8322-07DABD31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EEEE-FC32-4595-9276-EBD976B7F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8:19:44Z</dcterms:created>
  <dc:creator>abeason</dc:creator>
  <dc:description/>
  <dc:language>en-US</dc:language>
  <cp:lastModifiedBy>abeason</cp:lastModifiedBy>
  <dcterms:modified xsi:type="dcterms:W3CDTF">2008-10-14T18:19:49Z</dcterms:modified>
  <cp:revision>1</cp:revision>
  <dc:subject/>
  <dc:title>Slide 1</dc:title>
</cp:coreProperties>
</file>